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6.jpeg" ContentType="image/jpeg"/>
  <Override PartName="/ppt/media/image5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Joink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88B4-CE52-4389-832D-A58554863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3D45-2107-4B48-A362-5C0AFC620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0FEB-7683-482E-8D3E-958081015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FBCB-713F-402B-A81E-AED55FBD6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BB48-DC11-4CD8-B7FD-113C9C218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566C-79D3-4C59-8CA0-6D2FFABF7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24EB-F571-4100-ACB0-91A46029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6858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3700080"/>
            <a:ext cx="6858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62AD-0585-40BD-9020-9D90B932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66600" y="91404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370008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66600" y="370008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6C96-6941-4041-888C-93654496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220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71040" y="914040"/>
            <a:ext cx="220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89440" y="914040"/>
            <a:ext cx="220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3700080"/>
            <a:ext cx="220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71040" y="3700080"/>
            <a:ext cx="220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89440" y="3700080"/>
            <a:ext cx="220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885D-0490-4434-959F-BFFA997D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984D-6F5B-46BA-8BDD-77DD6B91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80" y="914040"/>
            <a:ext cx="68580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366C-E2CB-46E5-BFE1-E9BA38CF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6858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77D4-E67A-4230-9762-87DE74C8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3346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66600" y="914040"/>
            <a:ext cx="3346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CF35-50BF-496E-BD6E-4587C9AB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EB51-E411-402C-AFDD-CE47830E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6EFF-ADC7-4AB4-A83D-B0EEC71E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66600" y="914040"/>
            <a:ext cx="3346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80" y="370008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8EDC-C55F-493B-B79D-A8EF87E3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914040"/>
            <a:ext cx="68580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748C-3142-4279-AF23-FCF74506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3346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66600" y="91404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666600" y="370008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4533-B774-4809-8730-DD490D72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66600" y="91404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3700080"/>
            <a:ext cx="6858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FFD6-BADF-4141-9C09-12BF906C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6858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80" y="3700080"/>
            <a:ext cx="6858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6DD1-B6A6-45A0-B131-868DB3BB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66600" y="91404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370008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666600" y="370008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FE8B-2D5B-456E-B924-29C3E7EE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220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71040" y="914040"/>
            <a:ext cx="220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89440" y="914040"/>
            <a:ext cx="220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80" y="3700080"/>
            <a:ext cx="220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71040" y="3700080"/>
            <a:ext cx="220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789440" y="3700080"/>
            <a:ext cx="2207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54FA-9E9E-43CA-A4F6-375410696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6858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8167-E055-476D-88EC-D952448D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3346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66600" y="914040"/>
            <a:ext cx="3346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8659-EE02-4505-A380-B5CBF052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9428-0C15-4E4E-B1C2-C6293A99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7E38-D25D-4A31-8543-B3CE548D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66600" y="914040"/>
            <a:ext cx="3346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370008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FB6C-A991-4972-B08D-7F4BBADC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3346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66600" y="91404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66600" y="370008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F832-232B-4B63-8456-28FF73CB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4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66600" y="914040"/>
            <a:ext cx="3346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3700080"/>
            <a:ext cx="6858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3581-0982-4977-9C2B-91F6C30B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280" y="914040"/>
            <a:ext cx="6858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Joink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Eras Demi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ED13-8A3C-425E-AB47-05F2890552B5}" type="slidenum">
              <a:rPr b="0" lang="en-US" sz="1200" spc="-1" strike="noStrike">
                <a:solidFill>
                  <a:srgbClr val="ffffff"/>
                </a:solidFill>
                <a:latin typeface="Eras Demi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52280" y="914040"/>
            <a:ext cx="6858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Eras Demi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Demi IT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Eras Demi IT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Joink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Eras Demi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EC79-4B68-4C97-9C55-3F30C8D56E13}" type="slidenum">
              <a:rPr b="0" lang="en-US" sz="1200" spc="-1" strike="noStrike">
                <a:solidFill>
                  <a:srgbClr val="ffffff"/>
                </a:solidFill>
                <a:latin typeface="Eras Demi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4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1981080"/>
            <a:ext cx="3962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omic Sans MS"/>
              </a:rPr>
              <a:t>Holy cow!!</a:t>
            </a:r>
            <a:endParaRPr b="0" lang="en-US" sz="9600" spc="-1" strike="noStrike">
              <a:solidFill>
                <a:srgbClr val="ffffff"/>
              </a:solidFill>
              <a:latin typeface="Joink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-360" y="4266720"/>
            <a:ext cx="44197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You have 5 seconds to answer this question!</a:t>
            </a:r>
            <a:endParaRPr b="0" lang="en-US" sz="3600" spc="-1" strike="noStrike">
              <a:solidFill>
                <a:srgbClr val="000000"/>
              </a:solidFill>
              <a:latin typeface="Eras Demi ITC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2280" y="914040"/>
            <a:ext cx="6096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endParaRPr b="0" lang="en-US" sz="4000" spc="-1" strike="noStrike">
              <a:solidFill>
                <a:srgbClr val="000000"/>
              </a:solidFill>
              <a:latin typeface="Eras Demi ITC"/>
            </a:endParaRPr>
          </a:p>
        </p:txBody>
      </p:sp>
      <p:pic>
        <p:nvPicPr>
          <p:cNvPr id="92" name="Picture 10" descr="cartoon_cow_victim_of_tipping_hg_clr"/>
          <p:cNvPicPr/>
          <p:nvPr/>
        </p:nvPicPr>
        <p:blipFill>
          <a:blip r:embed="rId1"/>
          <a:stretch/>
        </p:blipFill>
        <p:spPr>
          <a:xfrm>
            <a:off x="380880" y="4114800"/>
            <a:ext cx="1922760" cy="18572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Clock is Ticking!</a:t>
            </a:r>
            <a:endParaRPr b="0" lang="en-US" sz="3600" spc="-1" strike="noStrike">
              <a:solidFill>
                <a:srgbClr val="ffffff"/>
              </a:solidFill>
              <a:latin typeface="Joinks"/>
            </a:endParaRPr>
          </a:p>
        </p:txBody>
      </p:sp>
    </p:spTree>
  </p:cSld>
  <p:transition advTm="5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51920" y="5562720"/>
            <a:ext cx="44197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wo Minutes</a:t>
            </a:r>
            <a:endParaRPr b="0" lang="en-US" sz="4800" spc="-1" strike="noStrike">
              <a:solidFill>
                <a:srgbClr val="000000"/>
              </a:solidFill>
              <a:latin typeface="Eras Demi ITC"/>
            </a:endParaRPr>
          </a:p>
        </p:txBody>
      </p:sp>
      <p:pic>
        <p:nvPicPr>
          <p:cNvPr id="95" name="Picture 4" descr="cartoon_cow_is_she_dead_hg_clr"/>
          <p:cNvPicPr/>
          <p:nvPr/>
        </p:nvPicPr>
        <p:blipFill>
          <a:blip r:embed="rId1"/>
          <a:stretch/>
        </p:blipFill>
        <p:spPr>
          <a:xfrm>
            <a:off x="0" y="228600"/>
            <a:ext cx="3200400" cy="2835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artoon_cow_female_bucket_stuck_hg_clr"/>
          <p:cNvPicPr/>
          <p:nvPr/>
        </p:nvPicPr>
        <p:blipFill>
          <a:blip r:embed="rId2"/>
          <a:stretch/>
        </p:blipFill>
        <p:spPr>
          <a:xfrm>
            <a:off x="1219320" y="3200400"/>
            <a:ext cx="2590560" cy="1946160"/>
          </a:xfrm>
          <a:prstGeom prst="rect">
            <a:avLst/>
          </a:prstGeom>
          <a:ln w="0">
            <a:noFill/>
          </a:ln>
        </p:spPr>
      </p:pic>
    </p:spTree>
  </p:cSld>
  <p:transition advTm="12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52280" y="914040"/>
            <a:ext cx="56390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It</a:t>
            </a: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s time to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MOOVE</a:t>
            </a:r>
            <a:r>
              <a:rPr b="1" lang="ja-JP" sz="5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on to something else!</a:t>
            </a:r>
            <a:endParaRPr b="0" lang="en-US" sz="5400" spc="-1" strike="noStrike">
              <a:solidFill>
                <a:srgbClr val="000000"/>
              </a:solidFill>
              <a:latin typeface="Eras Demi ITC"/>
            </a:endParaRPr>
          </a:p>
        </p:txBody>
      </p:sp>
      <p:pic>
        <p:nvPicPr>
          <p:cNvPr id="98" name="Picture 4" descr="cartoon_cow_female_bucket_stuck_hg_clr"/>
          <p:cNvPicPr/>
          <p:nvPr/>
        </p:nvPicPr>
        <p:blipFill>
          <a:blip r:embed="rId2"/>
          <a:stretch/>
        </p:blipFill>
        <p:spPr>
          <a:xfrm>
            <a:off x="3048120" y="4495680"/>
            <a:ext cx="2609640" cy="196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artoon_cow_female_grazing_hg_clr"/>
          <p:cNvPicPr/>
          <p:nvPr/>
        </p:nvPicPr>
        <p:blipFill>
          <a:blip r:embed="rId3"/>
          <a:stretch/>
        </p:blipFill>
        <p:spPr>
          <a:xfrm>
            <a:off x="609480" y="4572000"/>
            <a:ext cx="1935360" cy="1792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76" descr="cartoon_cow_female_bucket_stuck_hg_clr"/>
          <p:cNvPicPr/>
          <p:nvPr/>
        </p:nvPicPr>
        <p:blipFill>
          <a:blip r:embed="rId1"/>
          <a:stretch/>
        </p:blipFill>
        <p:spPr>
          <a:xfrm>
            <a:off x="838080" y="1066680"/>
            <a:ext cx="2610000" cy="1962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7" descr="cartoon_cow_female_grazing_hg_clr"/>
          <p:cNvPicPr/>
          <p:nvPr/>
        </p:nvPicPr>
        <p:blipFill>
          <a:blip r:embed="rId2"/>
          <a:stretch/>
        </p:blipFill>
        <p:spPr>
          <a:xfrm>
            <a:off x="838080" y="3876840"/>
            <a:ext cx="2438640" cy="2259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8" descr="cartoon_cow_female_nervous_look_hg_clr"/>
          <p:cNvPicPr/>
          <p:nvPr/>
        </p:nvPicPr>
        <p:blipFill>
          <a:blip r:embed="rId3"/>
          <a:stretch/>
        </p:blipFill>
        <p:spPr>
          <a:xfrm>
            <a:off x="4114800" y="1171440"/>
            <a:ext cx="2089080" cy="1697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79" descr="cartoon_cow_female_stare_hg_clr"/>
          <p:cNvPicPr/>
          <p:nvPr/>
        </p:nvPicPr>
        <p:blipFill>
          <a:blip r:embed="rId4"/>
          <a:stretch/>
        </p:blipFill>
        <p:spPr>
          <a:xfrm>
            <a:off x="6629400" y="838080"/>
            <a:ext cx="1924200" cy="192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80" descr="cartoon_cow_is_she_dead_hg_clr"/>
          <p:cNvPicPr/>
          <p:nvPr/>
        </p:nvPicPr>
        <p:blipFill>
          <a:blip r:embed="rId5"/>
          <a:stretch/>
        </p:blipFill>
        <p:spPr>
          <a:xfrm>
            <a:off x="4267080" y="3727440"/>
            <a:ext cx="2286000" cy="2025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1" descr="cartoon_cow_victim_of_tipping_hg_clr"/>
          <p:cNvPicPr/>
          <p:nvPr/>
        </p:nvPicPr>
        <p:blipFill>
          <a:blip r:embed="rId6"/>
          <a:stretch/>
        </p:blipFill>
        <p:spPr>
          <a:xfrm>
            <a:off x="6781680" y="3886200"/>
            <a:ext cx="1922760" cy="1857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21:26:38Z</dcterms:created>
  <dc:creator>Cheryl Massengale</dc:creator>
  <dc:description/>
  <dc:language>en-US</dc:language>
  <cp:lastModifiedBy>Microsoft Office User</cp:lastModifiedBy>
  <dcterms:modified xsi:type="dcterms:W3CDTF">2011-09-17T09:39:20Z</dcterms:modified>
  <cp:revision>2</cp:revision>
  <dc:subject/>
  <dc:title>Holy cow!!</dc:title>
</cp:coreProperties>
</file>